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D4C-8A3A-4EFD-BE4F-890B2C7D76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37D0-4447-4D0B-B26E-91D82C962B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EC8-79A7-44D7-BD32-4DF392AA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4D2-BBCE-4BF5-A481-046B278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420-09C5-4784-8B0D-EB3E978A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A49-A04D-4225-B75B-F4797F65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D4D-A495-4E48-987B-FBF03604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5B27-49F4-4775-A95F-7FCFFA2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097-F984-4985-83C0-83F7A7B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D47A-9A8C-4284-827E-3102126E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15FB-016F-4C72-9F43-BDBDF06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7DBE-5D31-451E-8CA1-A6F61A9B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11DA-F01F-4DF6-9732-FAF7BA4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52D-E445-464A-A1AF-C4D9802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C5D-9935-4F91-8038-ED88D1D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74D4-0767-4772-A73A-551213BE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DB7D-2D92-4E00-8B45-C17FCB8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8F3A-AA46-48A3-8DC5-EAA20E70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2ED-1482-4B38-9B75-09A82E64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702D-C242-431D-9E93-5DD1324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C6A6-8A34-46C2-AF7F-8BB40DD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271B-58B3-4E0B-8850-EF3B5996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AB87-F2C0-41F8-AD21-FD8132AD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2FE0-F013-496C-907E-987351A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CB0-5454-4505-A72A-C2E5A4D1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9361-190F-49AE-98A5-B90398F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EBA4-1725-4BEE-8463-C370693D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0EA9-229B-4F10-BB5A-3DCE79C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E59A-515D-4810-8956-C52C713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9574-C26E-4C8A-ABA1-6B37A0C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28C6-070F-4895-9332-BF71D939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3D29-C4C5-4521-A790-978F212D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063C-3BC7-4907-86E9-9B3F5309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833B-E8D8-4FA0-98A6-62EE9B75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8BCD-039C-4399-AA56-38E85FD1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A60-1490-449B-8C8E-4BFB24A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694E-6A75-4457-A26D-619A08C9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2295-279E-4017-B68F-15020B8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015F-8BCB-4ED2-A6B4-5E2CBE9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FF31-7A5D-461B-B3B7-8C6593C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108C-1264-4E3E-90CC-76A3E88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A673-77B9-4171-B387-5B9DBB6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C70F-E6DA-4582-8688-062CBF52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7AC3-4B46-4DE6-9F94-C1ECFD62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3EE2-869D-405C-AFF8-D64D1068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FBA-8E85-49F9-9B0D-79B00460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15A-B721-4356-819C-3E9011FA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781-E39F-4D9C-82C4-AE0FEA6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C46-65F2-4E7F-B9F9-E7C46F6C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62E-1EAC-4695-8004-D36F178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E9F-8AFA-4A2F-BF63-2CFE98539C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6B7-894F-4F40-AD1E-E8CD3CD0D5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261-78CA-41E5-9955-7D41837E64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opyright 2004  Paul Tilley  College of the North Atl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D6B7-FD03-469D-ABE7-AFAC53E171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89040" y="1231920"/>
            <a:ext cx="8259840" cy="1998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Chapter 1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MR21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0" t="13457" r="0" b="20954"/>
          <a:stretch/>
        </p:blipFill>
        <p:spPr>
          <a:xfrm>
            <a:off x="0" y="114300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rcRect l="9259" t="5557" r="10185" b="9998"/>
          <a:stretch/>
        </p:blipFill>
        <p:spPr>
          <a:xfrm>
            <a:off x="990720" y="0"/>
            <a:ext cx="77724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Implementing the advertising pl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rior to launching the advertising campaign, you need to pre-test the ads.  This is done using Portfolio tests, or Jury tests or more sophisticated Theatre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es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904760"/>
            <a:ext cx="9144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Evaluating the advertising plan and implementation and the overall effect on sal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Once the campaign is underway, post-testing must be done to evaluate the effectiveness of the eff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umerous post tests can be done including aided recall, unaided recall , attitude tests, inquiry tests and sales tes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ales Promo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onsumer Oriented Sales Promo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up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miu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weepstak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tinuity Programs (Frequent user prom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oint-of-Purchase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sumer reb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16666" t="5046" r="16666" b="10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ales Promo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rade Oriented Sales Promo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-op Advertis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aining of sales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ublic Re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ublic relation hopes to positively influence the perceptions of potential customers towards the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ganizations do not directly pay for Public Rel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Unlike with paid advertising organizations exercise limited control over public relations eff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ublic Relations Too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me Frequently used Publicity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ews rel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ews Confer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ss K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formation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eb S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ecial Event Sponso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ublic Service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motional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vertising is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one key element of the promotional mi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defined as any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direct paid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form of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mass communicatio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about a product or service or idea by som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dentified spons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s of Advertis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182844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ements can come in two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duct Advertisements - Advertises a product direct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ioneering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rovides information on a new product such as what it is, what it can do and where to buy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mpetitive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ersuades a customer to buy the advertised product rather than the competitive product. Used in the growth and maturity part of the products lifecy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minder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Used to reinforce previous knowledge of the product.  The primary purpose of this is to convince people who have bought the product that they have made a good choice. Used in the maturity stage of the product life cyc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s of Advertis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ements can come in two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stitutional Advertisements - Advertises a company, designed to build goodwill and/or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dvocacy Ads-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dvocates a corporate position, political or otherwi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ioneering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rovides information on a new or unknown company to the publi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mpetitive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Persuades a customer to buy one companies products over those of a competitive compan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minder A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- Used to reinforce previous knowledge of the company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 of Adverti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dvertising is designed in one of two way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irect Response Advertis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Designed to elicit an immediate response by the customer. eg - including a statement like “Call Now...”, or “don’t delay…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Delayed Response Advertising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- designed to make the customer aware of the product so that when they do eventually buy they consider that advertised produ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3 stag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ree stages in developing an advertising progra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1)  Plan the advertising effo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2)  Implement the advertis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3)  Evaluate the advertising and its effect on     sal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arget the audience by asking and answering: Who are we selling this 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ecify the objectives of the advertising effort. Make sure the objectives are clear. Note the Hierarchy of Effe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the advertising budget and determine how to create the budg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Budgets can be based on a Percentage of Sales, Competitive Parity, All you can afford to spend, or Objective and Tas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eate the message, determine the content and how the content should be presented (Appeal)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eveloping an Advertising Program - Stage 1 cont.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Planning the advertising effor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lect the right media.  Media choice is key to effective adverti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Be aware of Terms such as Reach, rating, frequency, gross rating points and cost-per -thousan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nstantia"/>
              </a:rPr>
              <a:t>Also be aware of the different types of media as well as advantages and disadvantages of the different media typ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6:59:38Z</dcterms:created>
  <dc:creator>Debbie Vincent</dc:creator>
  <dc:description/>
  <dc:language>en-US</dc:language>
  <cp:lastModifiedBy>Tilley, Paul (C'ville)</cp:lastModifiedBy>
  <dcterms:modified xsi:type="dcterms:W3CDTF">2012-04-04T14:58:17Z</dcterms:modified>
  <cp:revision>23</cp:revision>
  <dc:subject/>
  <dc:title>Marketing Channels and Wholesa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